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0985-54B5-4C94-BDAA-592A95AE03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4F215-5E42-4989-B104-7A841B83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4FEB-0B1F-47BE-A1F8-287BBA23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F3A7-7638-4B76-A086-C81EB574D8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D255-EF04-44D0-A1B1-4B679B94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FE68-3481-4E31-87C7-2FB2240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8460-DB3B-48A7-9F66-FA6A4A75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CD1C1-8F56-48DC-8A66-EE20ED04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7D819-F544-4D1A-84DB-29B261FA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9820-B3FE-4B6A-ABBC-13415CDC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C99F-D10F-496D-99A7-A6F74855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F4E-7B30-4950-967B-AC86E3FB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B114-D5D0-45ED-A9F6-769BE53B1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颅内肿瘤，拟行开颅病灶切除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围术期护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意外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检查及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及输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、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生活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疗相关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及家属康复训练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合理摄入均衡饮食，注重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未明。可能与遗传、外伤、理化因素和生物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起病多较缓慢，病程可自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至数年不等。部分病例可呈急性或亚急性发病，由于肿瘤的原发部位、组织生物学特性的不同，不同肿瘤的临床表现各异，但以颅内压增高、神经功能定位症状为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为主，辅以放疗、化疗及免疫、基因、中医等综合治疗。降低颅内压以缓解症状，争取治疗时间。切除肿瘤是降低颅内压、解除对脑神经压迫的最直接、最有效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非手术治疗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护理期间采取斜坡位，注意休息，营养支持，保持呼吸道通畅，病情观察，颅内压增高的护理，防止发生意外，做好心理护理和各项术前准备。术后注意观察患者的生命体征、意识状态、瞳孔及肢体活动状况，采取适当体位，补充营养和输液，保持呼吸道通畅，减轻疼痛，观察伤口及引流管情况，加强生活护理，预防和处理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颅内肿瘤患者的病情观察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颅内肿瘤的临床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颅内肿瘤患者术后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内肿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头痛、头晕、右半身麻木无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日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志清楚，眼底视盘模糊不清，视盘水肿。有面部感觉减退，右侧肢体不全瘫痪，右侧病理反射阳性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定位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刺激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破坏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见颅内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星形细胞肿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膜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听神经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咽管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垂体腺及靶腺功能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理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伤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化学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肿瘤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／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 与呕吐、食欲下降、放疗、化疗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 与肿瘤压迫、手术创伤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卫生、如厕）自理缺陷 与手术后长期卧床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：颅内压增高、脑疝、颅内出血、中枢性高热、感染、脑脊液漏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9:53Z</dcterms:modified>
  <cp:revision>87</cp:revision>
  <dc:subject/>
  <dc:title>内科护理学</dc:title>
</cp:coreProperties>
</file>